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1.png" ContentType="image/png"/>
  <Override PartName="/ppt/media/image29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24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4.wmf" ContentType="image/x-wmf"/>
  <Override PartName="/ppt/media/image22.jpeg" ContentType="image/jpeg"/>
  <Override PartName="/ppt/media/image1.jpeg" ContentType="image/jpeg"/>
  <Override PartName="/ppt/media/image25.wmf" ContentType="image/x-wmf"/>
  <Override PartName="/ppt/media/image2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A65-A1BD-43D3-94EF-A327F546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249-EFC0-42E8-A230-C01E631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EC0-F4D4-471E-84CF-72CFB211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1C9-BD1C-43AC-9229-A9445062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7B69-7CE2-4470-BB0B-1B1026B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1F9-615D-4E35-BF1A-098365C9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253-53AE-4FC6-9722-E6DED99A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6BE3-CFAE-4465-A569-D23DB0C9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CCA0-B4BC-4F39-95E3-B766DD5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DFA-D097-4B63-9B5F-68888000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6395-99C4-499F-99D5-AA99AEBD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F0D-385A-4866-A0C0-8BAB1518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50B-D63A-4A17-8259-8147728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63B-BD53-47CA-8F42-29951881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C739-FEED-4CFC-99BB-C107328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153-BD08-47AC-9D00-BF206CF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79D4-445F-4F68-8CD9-4CD9515E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859-C112-437E-BC45-0EF20A02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2FA-703E-4ABB-A086-EDBE3A61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1ED-2610-4DA7-9237-D923B644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C04-12A9-4516-8A21-A758B78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C5C-FF3D-47C0-9BC8-9C787CF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486-5D39-47C9-B759-DB3848D5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47A-5310-4725-BCA1-C4CA8C6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6DB7-B046-4089-B4C1-E345FFB89E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8A9C-D6F2-442D-9809-E3B4820EDB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"/>
            <a:ext cx="795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РЕЗУЛЬТАТЫ  ДОМЕСТИК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АМУРСКИХ  ОСЕТРОВ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  СОВРЕМЕННОЕ   СОСТОЯНИЕ ОСЕТРОВОДСТВА  В  ПРИМОР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8006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Е.И. Ра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Д.Ю. Амвро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ФГУП «ТИНРО-Цент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2040" y="59799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Владивосток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62370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11430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Массовое созревание самцов амурского осетра происходит в возрасте 7- годов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и сумме тепла 34,2 тыс. градусо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Для созревания первых 8-годовалых самок потребовалось 38,9 тыс. градусодней, послед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0 -годовалых – 47,6 тыс. градусо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амцы созревают ежегодно, межнерестовые интервалы преобладающего большинства самок составляют 2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95280" y="304920"/>
          <a:ext cx="640080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64008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52280" y="4495320"/>
            <a:ext cx="8991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Рост калуги ремонтно-маточных стад в условиях Лучегорской НИ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 – генерация 1996 г. (содержание в садках, 2 зимовки в УЗ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2 – генерация 1996 г. (содержание в садках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 зимовка в УЗ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3 – генерация 1998 г. (содержание в садках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 зимовка в УЗ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4 – генерация 1999 г. (постоянное содержание в садках с возраста 2-х месяце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55840" y="196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09480" y="1981080"/>
          <a:ext cx="8077320" cy="3864240"/>
        </p:xfrm>
        <a:graphic>
          <a:graphicData uri="http://schemas.openxmlformats.org/drawingml/2006/table">
            <a:tbl>
              <a:tblPr/>
              <a:tblGrid>
                <a:gridCol w="1143000"/>
                <a:gridCol w="876600"/>
                <a:gridCol w="1215720"/>
                <a:gridCol w="1214640"/>
                <a:gridCol w="1214280"/>
                <a:gridCol w="1216080"/>
                <a:gridCol w="1197000"/>
              </a:tblGrid>
              <a:tr h="37584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од основания генерации, возраст рыб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6 (9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8 (7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9 (6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 зимовки в УЗ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 зимовка в УЗ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 зимовка в УЗ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а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75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♂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асса, кг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 ±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im</a:t>
                      </a:r>
                      <a:r>
                        <a:rPr b="1" lang="ru-RU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1,7±0,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1,4- 5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9,9±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2,7- 5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2,7±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30,6- 5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34,1±1,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4,8- 4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1,1±0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7,0- 2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75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Количество зрелых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роизводителей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♂ 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0" y="51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69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арактеристика РМС  калуги    разных генера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октябрь 2005 г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2209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ервые самцы калуги созрели в возра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9-годовиков. Общая сумма тепла к моменту созревания составила 45,8 тыс. градусо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ервые самки калуги созрели в возрас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0-годовиков, набрав  48,3 тыс. градусо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2590920"/>
            <a:ext cx="2160720" cy="15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брид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т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457200"/>
            <a:ext cx="5064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341360"/>
            <a:ext cx="514044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2133720"/>
            <a:ext cx="514044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895480"/>
            <a:ext cx="51055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3733920"/>
            <a:ext cx="510552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чение стерильных гибр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4581360"/>
            <a:ext cx="5140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5373720"/>
            <a:ext cx="51404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71640" y="836640"/>
            <a:ext cx="1079640" cy="1728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3213000"/>
            <a:ext cx="10796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771640" y="2420640"/>
            <a:ext cx="1079640" cy="6476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71640" y="1628640"/>
            <a:ext cx="1079640" cy="1152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1640" y="4076640"/>
            <a:ext cx="1079640" cy="1728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3789360"/>
            <a:ext cx="1079640" cy="10796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3500280"/>
            <a:ext cx="1079640" cy="5050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1295280"/>
            <a:ext cx="48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чность выращивания, под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спективных гибридных фор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572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ижение отходов на всех этап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щи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46680" y="209376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учшение вкусовых качеств, вых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кры  и съедобных частей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895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совместим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номов различных  видов осетр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6680" y="4724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ние породы для местных усло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69920" y="533412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экономической эффек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варного осетро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АРИАНТЫ РЕЦИПРОКНЫХ СКРЕЩИВАНИЙ ОСЕТРОВЫХ РЫБ НА ЛУЧЕГОРСКОЙ НИРС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1523880"/>
          <a:ext cx="6338880" cy="2657520"/>
        </p:xfrm>
        <a:graphic>
          <a:graphicData uri="http://schemas.openxmlformats.org/drawingml/2006/table">
            <a:tbl>
              <a:tblPr/>
              <a:tblGrid>
                <a:gridCol w="2849400"/>
                <a:gridCol w="3489480"/>
              </a:tblGrid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О х С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О х А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О х 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 х А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АО х (РО х С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РО х СО) х А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АО х (АО х К)</a:t>
                      </a: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х 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 х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О х (АО х К)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АО х (АО х К)</a:t>
                      </a: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х С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О х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О х (АО х К)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К х 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т х 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1301040" y="4572000"/>
            <a:ext cx="64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имечания: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АО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амурский осетр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О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сибирский осетр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РО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русский осетр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стерляд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калу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5562720"/>
            <a:ext cx="807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Желтым цветом выделены имеющиеся гибриды, – зеле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ланируемые в ближайшие го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5041800" cy="1013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364000" y="333360"/>
            <a:ext cx="36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оварный гибр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ибирского и амурского осетров. Рыбоводные показатели лучше, чем у исходных в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5761080" cy="1787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4724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оварный  гибрид русского, сибирского и амурского осетров.  Лучшая выживаемость и наименьшие кормовые затраты на всех этапах выращивания. Рыбопродуктивность до 100 кг/м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а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904000" cy="1388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2070000" cy="532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79280" y="342900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оварный гибрид между стерлядью и амурск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осетром. Стерильная фор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емп роста значительно выше, чем у стерляд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кормовые затраты ниже. По вкусовым качеств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лучше амурского осе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050160" cy="1381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03280" y="1674720"/>
            <a:ext cx="6048360" cy="2017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>
            <a:lum contrast="2000"/>
          </a:blip>
          <a:stretch/>
        </p:blipFill>
        <p:spPr>
          <a:xfrm>
            <a:off x="1403280" y="3645000"/>
            <a:ext cx="6048360" cy="1760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28120" y="566100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ибрид стерляди с калугой. Вперв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лучен в 2005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–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ид сбоку;  Б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ид сверху; В – вид сн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21640" y="150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94720" y="323208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53640" y="40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3800" y="40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370240" cy="2808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276720" y="2492280"/>
            <a:ext cx="2160360" cy="2805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362320" cy="2816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55080" y="56070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терля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3080" y="556272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ибр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терлядь х Ка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4160" y="558648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а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052640"/>
            <a:ext cx="79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ид головы исходных видов и гибрида сни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66680" y="228600"/>
            <a:ext cx="7391520" cy="6111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14600" y="5257800"/>
            <a:ext cx="241200" cy="24120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0240" y="5181480"/>
            <a:ext cx="155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0"/>
                </a:solidFill>
                <a:latin typeface="Arial"/>
              </a:rPr>
              <a:t>Владив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241560" cy="24120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4320" y="2093760"/>
            <a:ext cx="124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0"/>
                </a:solidFill>
                <a:latin typeface="Arial"/>
              </a:rPr>
              <a:t>Лучегор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04920"/>
            <a:ext cx="241560" cy="24120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5040" y="228600"/>
            <a:ext cx="130680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0"/>
                </a:solidFill>
                <a:latin typeface="Arial"/>
              </a:rPr>
              <a:t>Хабаров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87120" y="5715000"/>
            <a:ext cx="73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ибридные индексы сеголеток гибрида Ст х К 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942840"/>
          <a:ext cx="9042480" cy="45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2840"/>
                    <a:ext cx="90424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915400" y="5334120"/>
            <a:ext cx="22860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бъемы выращивания товарных осетровых ры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8360" y="2506680"/>
          <a:ext cx="7991280" cy="36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06680"/>
                    <a:ext cx="79912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363852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647960" y="47750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Пищевая черная ик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бъемы получения пищевой икры осетровых ры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33520" y="2284560"/>
          <a:ext cx="77104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4560"/>
                    <a:ext cx="77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15238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За последние годы  испытаны более 20 вари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различных тип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ормов для осетровых рыб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Разработан и используется в промышленных масштабах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одукционный осетровый кор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обственной рецептуры  с содержанием протеина 42-45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роме традиционных компонентов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 него входя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тходы переработки морепродуктов (крабы, гребешок, мидийные обрастания) и водорослевая му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159876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орошо зарекомендовали себя корма с добавками витаминов А, Е, С и пробиотика «субтилис», повыша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ыживаемость осетровых различных возрастных гру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и способствующие снижению кормовых затр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и испытаниях опытных партий  кормов осуществляется физиологический мониторинг показателей крови и состояния пищеварительной системы осетр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ТИНРО-Центром совместно с Тихоокеанским институтом биоорганической химии на основе иммуноферментного метода разрабатывается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тест-система для оперативного определения пола осетровых рыб в производственных условия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360520" y="571500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ОБЩИЙ  ВИД  ЛУЧЕГОРСКОЙ  НИР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57400" y="5029200"/>
            <a:ext cx="4537080" cy="83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634160" cy="200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72520" y="6095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Амурский ос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11680" y="419112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а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МАТОЧНЫЕ СТАДА ОСЕТРОВЫХ РЫБ,  СОДЕРЖАЩИЕ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 САДКАХ ЛУЧЕГОРСКОЙ НИ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537080" cy="1108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37080" cy="1065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220000" y="64440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ибирский ос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000" y="3236760"/>
            <a:ext cx="37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ибрид «Русский осетр 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ибирский осет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57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26654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350520" y="58294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терля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4535280" cy="1246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93440" y="18684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Байкальский ос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5041800" cy="1012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34120" y="44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ибрид «Сибирский осетр х Амурский осет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07360" y="5419800"/>
            <a:ext cx="748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Годовая динамика температуры воды и сумма градусодней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управляемых системах Лучегорской НИРС и р. Аму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96960" y="623880"/>
          <a:ext cx="77500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623880"/>
                    <a:ext cx="7750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90720" y="228600"/>
          <a:ext cx="708156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15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57200" y="552276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952880"/>
            <a:ext cx="8055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Рост амурского осетра  ремонтно-маточных ст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 условиях Лучегорской НИ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 - генерация 1993 г. (содержание в УЗВ от личинки до двухмесячной молоди, далее в садках); 2 – генерация 1996 г.; 3 – генерация 1999 г (содержание обеих в УЗВ от личинки до годовика, далее в садк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228600" y="2590920"/>
          <a:ext cx="8839080" cy="2068560"/>
        </p:xfrm>
        <a:graphic>
          <a:graphicData uri="http://schemas.openxmlformats.org/drawingml/2006/table">
            <a:tbl>
              <a:tblPr/>
              <a:tblGrid>
                <a:gridCol w="1303200"/>
                <a:gridCol w="1092240"/>
                <a:gridCol w="1057320"/>
                <a:gridCol w="885960"/>
                <a:gridCol w="941400"/>
                <a:gridCol w="1116000"/>
                <a:gridCol w="1452600"/>
                <a:gridCol w="990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ен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амок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ыбы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к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икры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к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С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икринк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абоч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лодовитость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тыс.шт.ик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личинок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0,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2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3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,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9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380880" y="798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Изменение рыбоводно-биологических показателей самок амурского осетра  генераций 1993 и 199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в  процессе формирования маточного ст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80880" y="2471760"/>
          <a:ext cx="8305920" cy="3319560"/>
        </p:xfrm>
        <a:graphic>
          <a:graphicData uri="http://schemas.openxmlformats.org/drawingml/2006/table">
            <a:tbl>
              <a:tblPr/>
              <a:tblGrid>
                <a:gridCol w="1338480"/>
                <a:gridCol w="738000"/>
                <a:gridCol w="1249560"/>
                <a:gridCol w="1249200"/>
                <a:gridCol w="1249560"/>
                <a:gridCol w="1249200"/>
                <a:gridCol w="1231920"/>
              </a:tblGrid>
              <a:tr h="33732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Год основания генерации, возраст рыб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3  (12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6 (9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999 (6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♂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♂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♀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асса, кг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М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im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0,1±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4,1-2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,2±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ru-RU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7,1±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2,4-2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4,6±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,6-1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0,2±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8,3-1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9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Количество зрел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производителей,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♂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0880" y="798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арактеристика  РМС амурского осетра разных генераций (октябрь 2005 г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6-03-03T08:02:34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